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CDB-0BCF-42CC-A1D5-F52620A3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064-2019-4A89-8B01-CC6C5FC6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E7B-856F-4911-B1C2-41386F8D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E19-20D8-42A5-9A76-0C2B951D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56D2-BD8D-4D19-83E2-B3AC26B6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7944-1217-4570-8684-85746213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FDD2-A877-4D8E-922C-D2E79E81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907A-E57D-4957-B05F-FA6D3387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9C6B-A18E-4A2D-93D1-F9B14757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92FD-8859-478C-A4E6-E643ED23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B105-EE7C-4F9F-90B5-08973E93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A81-C9AD-41D1-95B8-2C500F45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1833-6F3F-4384-8B44-01EE17EF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E8F1-2EDE-4FF4-9CFF-E266C29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36A6-4D1B-4561-B8DA-69155FB3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2653-A319-46D8-83AA-E3AC8DBF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E82D-014D-4B68-A43B-BAF924D2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ED5-EFC3-4147-97B5-40992B5B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4B8-C95B-4218-A800-E39243FD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DE4-C37C-499D-8F4D-AC1B3CD5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FBA-D26D-44C2-AA9B-E225E6F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3BD-90A9-4914-A283-E27C723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1F9-FE31-4730-9BC6-BF870BA2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AE3-9CFB-4D2E-B132-B2EAD59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EA84-23CF-4D51-AA1A-5E26CC7680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AE30-F353-4467-B61F-5017783D39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RUMOSUL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4059000"/>
            <a:ext cx="5867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ş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1773360"/>
            <a:ext cx="5652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06:49Z</dcterms:modified>
  <cp:revision>38</cp:revision>
  <dc:subject/>
  <dc:title>SALARIUL</dc:title>
</cp:coreProperties>
</file>